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E9A-7B75-4C80-B590-CF1BBE00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0E0-8B78-480E-ABE8-DC19E45B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7786-E6DF-4A5D-8E11-CA7216FE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296-590C-49CC-94EB-4C3E8570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A8A-4931-46CF-9C66-229077DA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BF3-C573-4CCB-8412-E6B64AE3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DAC-D081-4ED3-B36C-97D0DEF3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CEA-34F6-4D71-B5A2-724002EC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BCC-04DB-41B2-A3A5-A4F50357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2C6-0DAD-47D6-955D-0692626A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BA2-5D12-47F4-A07E-B1C85BB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C27-25CE-487B-A1E4-CD486C27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54F3-3663-434A-86C3-CE17771F0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52280"/>
            <a:ext cx="8763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USTRALIAN IMAGE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09680" y="3276720"/>
            <a:ext cx="43815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IKE TO SH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62520" y="1752480"/>
            <a:ext cx="10666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97000"/>
                  </a:srgbClr>
                </a:solidFill>
                <a:latin typeface="Arial Black"/>
              </a:rPr>
              <a:t>I'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9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47920" y="4038480"/>
            <a:ext cx="6553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WOR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91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ty 24= 3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these cute fairy penguins from Philip isl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43440" cy="4064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019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y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1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12119 L 0.077 0.31697 L -0.077 0.31697 L -0.125 0.12119 L 0 0 Z">
                                      <p:cBhvr>
                                        <p:cTn id="12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924680" cy="2377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464832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Bondi beach one of the most well known beaches in the worl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04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ndi 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4 -0.19584 C -0.01979 -0.19006 -0.01007 -0.19353 -0.03715 -0.19792 C -0.05104 -0.20023 -0.06406 -0.20301 -0.0783 -0.2044 C -0.1052 -0.21457 -0.13316 -0.22174 -0.16093 -0.22544 C -0.17517 -0.23075 -0.18993 -0.24093 -0.19895 -0.25711 C -0.20642 -0.28809 -0.16701 -0.2874 -0.15295 -0.2911 C -0.14722 -0.29249 -0.14149 -0.29434 -0.13559 -0.29526 C -0.12934 -0.29642 -0.12291 -0.29665 -0.11649 -0.29734 C -0.09687 -0.29665 -0.07743 -0.29642 -0.05781 -0.29526 C -0.04514 -0.29434 -0.01961 -0.2911 -0.01961 -0.2911 C 0.01216 -0.2837 0.04063 -0.26705 0.07084 -0.25295 C 0.08212 -0.24763 0.0941 -0.24624 0.10573 -0.24231 C 0.11493 -0.24347 0.12709 -0.24162 0.13438 -0.25087 C 0.12605 -0.32925 0.06042 -0.36255 0.00886 -0.36925 C -0.07326 -0.36717 -0.09114 -0.36486 -0.18159 -0.37133 C -0.18628 -0.37156 -0.20104 -0.39029 -0.20382 -0.39468 C -0.20729 -0.4 -0.21336 -0.41156 -0.21336 -0.41156 C -0.2059 -0.42104 -0.19166 -0.41804 -0.18159 -0.41989 C -0.17309 -0.42127 -0.15607 -0.42428 -0.15607 -0.42428 C -0.15086 -0.42636 -0.14566 -0.42937 -0.14027 -0.43052 C -0.12777 -0.43353 -0.10225 -0.43677 -0.10225 -0.43677 C -0.03715 -0.42937 -0.06527 -0.43191 -0.01805 -0.42844 C -0.01284 -0.42613 -0.01493 -0.42636 -0.01163 -0.42636 E">
                                      <p:cBhvr>
                                        <p:cTn id="13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441972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liament house in Canberra. I think it’s a very important part of 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2480" y="-3352680"/>
            <a:ext cx="5867640" cy="401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049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iament house in Canb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22543E-006 L -0.01667 0.54381 E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733920" cy="2390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44956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400"/>
                </a:solidFill>
                <a:uFillTx/>
                <a:latin typeface="Arial"/>
              </a:rPr>
              <a:t>I chose this picture of kangaroos because kangaroos are Australian and its in a bush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ngaroos in the b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781 0.05064 C -0.41129 0.04394 -0.41268 0.04324 -0.41268 0.03376 C -0.41268 0.0044 -0.41893 -0.10543 -0.37778 -0.11629 C -0.3599 -0.11375 -0.36146 -0.11468 -0.3507 -0.09734 C -0.34861 -0.08901 -0.34514 -0.08254 -0.34288 -0.07398 C -0.34219 -0.07121 -0.34167 -0.06843 -0.34115 -0.06566 C -0.34045 -0.06219 -0.34045 -0.05849 -0.33958 -0.05502 C -0.33542 -0.03768 -0.3375 -0.0541 -0.3349 -0.04023 C -0.33386 -0.03468 -0.33281 -0.0289 -0.33177 -0.02335 C -0.33108 -0.01918 -0.33004 -0.00624 -0.33004 -0.01063 C -0.33004 -0.01641 -0.33125 -0.02196 -0.33177 -0.02751 C -0.33108 -0.04208 -0.33507 -0.07167 -0.32066 -0.07814 C -0.3125 -0.08901 -0.31511 -0.08762 -0.29358 -0.08046 C -0.29028 -0.0793 -0.28802 -0.07491 -0.28559 -0.0719 C -0.27986 -0.06497 -0.26823 -0.05179 -0.26337 -0.04231 C -0.26007 -0.03606 -0.25712 -0.02959 -0.25399 -0.02335 C -0.25087 -0.01687 -0.24757 -0.00208 -0.24757 -0.00208 C -0.24844 -0.02404 -0.2507 -0.04577 -0.2507 -0.06774 C -0.2507 -0.10797 -0.26198 -0.15907 -0.22691 -0.16924 C -0.20851 -0.16739 -0.2 -0.16786 -0.18559 -0.15653 C -0.18403 -0.15375 -0.18281 -0.15051 -0.1809 -0.14797 C -0.17952 -0.14612 -0.17726 -0.14589 -0.17622 -0.14381 C -0.175 -0.14127 -0.17552 -0.1378 -0.17448 -0.13525 C -0.17396 -0.13387 -0.16545 -0.12138 -0.16511 -0.12046 C -0.16146 -0.1119 -0.15938 -0.1045 -0.15399 -0.09734 C -0.15018 -0.08508 -0.1467 -0.07213 -0.14115 -0.06127 C -0.13854 -0.04392 -0.13472 -0.0252 -0.13004 -0.00855 C -0.12934 -0.0682 -0.15347 -0.12254 -0.11736 -0.14589 C -0.07292 -0.14242 -0.0757 -0.15051 -0.0507 -0.13109 C -0.0474 -0.12508 -0.04271 -0.12046 -0.03958 -0.11421 C -0.03368 -0.10242 -0.03281 -0.0904 -0.02535 -0.08046 C -0.02344 -0.07398 -0.02066 -0.06797 -0.01893 -0.06127 C -0.0158 -0.04924 -0.01493 -0.0356 -0.01268 -0.02335 C -0.0132 -0.01063 -0.01285 0.00232 -0.01424 0.0148 C -0.01458 0.01827 -0.01528 0.00764 -0.0158 0.00417 C -0.01927 -0.02196 -0.01545 0.00278 -0.01893 -0.01687 C -0.0224 -0.03722 -0.02379 -0.0578 -0.02691 -0.07814 C -0.02587 -0.10843 -0.02899 -0.11953 -0.01893 -0.14173 C -0.01875 -0.14219 -0.01285 -0.15306 -0.01111 -0.15445 C -0.00712 -0.15768 0.00156 -0.16277 0.00156 -0.16277 C 0.01805 -0.15999 0.03142 -0.15491 0.04132 -0.13525 C 0.0434 -0.13109 0.04548 -0.1267 0.04774 -0.12254 C 0.0493 -0.11976 0.05243 -0.11421 0.05243 -0.11421 C 0.05486 -0.10404 0.05903 -0.09479 0.06198 -0.08462 C 0.06458 -0.07537 0.06423 -0.0645 0.06667 -0.05502 C 0.06441 0.02798 0.07986 0.00671 0.00798 0.00209 C -0.02622 -0.00023 0.01024 5.54913E-006 1.66667E-006 5.54913E-006 E">
                                      <p:cBhvr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533520"/>
            <a:ext cx="30481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chose this picture of a scuba diver off the great barrier reef because the great barrier reef is an Australian icon and I love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col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304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reat barrier re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400800" cy="478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54864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is is a great picture of the Sydney opera house all lit u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5335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dney opera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4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808200"/>
            <a:ext cx="6195960" cy="447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54100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 love the look of these green tree 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5335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tree f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601 -0.10358 C -0.4441 -0.11907 -0.44323 -0.12392 -0.43646 -0.13733 C -0.4349 -0.14057 -0.43525 -0.1452 -0.43334 -0.14797 C -0.42986 -0.15329 -0.42483 -0.15653 -0.42066 -0.16069 C -0.40365 -0.1778 -0.41771 -0.16994 -0.40625 -0.17549 C -0.4007 -0.18288 -0.39792 -0.18335 -0.39045 -0.18589 C -0.38837 -0.1852 -0.38559 -0.18566 -0.38403 -0.18381 C -0.38021 -0.17918 -0.37466 -0.16693 -0.37466 -0.16693 C -0.3717 -0.15213 -0.36354 -0.13988 -0.35556 -0.12878 C -0.35382 -0.11699 -0.34931 -0.1082 -0.34601 -0.0971 C -0.34479 -0.09294 -0.34288 -0.08439 -0.34288 -0.08439 C -0.34115 -0.09179 -0.33854 -0.09849 -0.33646 -0.10566 C -0.33386 -0.11514 -0.33403 -0.12369 -0.32848 -0.13109 C -0.32587 -0.1415 -0.32309 -0.15306 -0.31736 -0.16069 C -0.31493 -0.1704 -0.31059 -0.1778 -0.30625 -0.18589 C -0.29896 -0.1993 -0.29323 -0.21479 -0.28247 -0.22404 C -0.27639 -0.23629 -0.28316 -0.22496 -0.27292 -0.23468 C -0.26858 -0.23884 -0.26476 -0.24577 -0.26025 -0.24947 C -0.254 -0.25456 -0.2467 -0.25757 -0.23959 -0.25988 C -0.23056 -0.25918 -0.22153 -0.25965 -0.21268 -0.2578 C -0.21077 -0.25733 -0.20973 -0.25479 -0.20799 -0.25364 C -0.20538 -0.25202 -0.20243 -0.25132 -0.2 -0.24947 C -0.1967 -0.24693 -0.19045 -0.24092 -0.19045 -0.24092 C -0.18785 -0.23606 -0.18507 -0.23098 -0.18247 -0.22612 C -0.18091 -0.22335 -0.17778 -0.21757 -0.17778 -0.21757 C -0.17257 -0.18913 -0.17223 -0.15953 -0.16181 -0.13317 C -0.16007 -0.15259 -0.15712 -0.16947 -0.15243 -0.18797 C -0.15139 -0.19213 -0.15157 -0.19745 -0.14913 -0.20069 C -0.13403 -0.2208 -0.12379 -0.22427 -0.10469 -0.23236 C -0.0915 -0.23098 -0.08195 -0.22797 -0.06979 -0.22404 C -0.05868 -0.21664 -0.04688 -0.20832 -0.03802 -0.19653 C -0.02483 -0.17895 -0.03785 -0.19121 -0.02691 -0.18173 C -0.01476 -0.15884 -0.00712 -0.13317 -0.00313 -0.10566 C -0.00209 -0.14658 -0.01007 -0.19098 0.02535 -0.20277 C 0.03907 -0.20207 0.05296 -0.20184 0.06667 -0.20069 C 0.08369 -0.1993 0.10105 -0.18913 0.11754 -0.18381 C 0.12431 -0.17849 0.13074 -0.17433 0.1382 -0.17109 C 0.14324 -0.16647 0.14827 -0.16323 0.154 -0.16069 C 0.15938 -0.15306 0.16581 -0.14705 0.17153 -0.13942 C 0.17588 -0.13364 0.17813 -0.12624 0.18265 -0.12046 C 0.18994 -0.1008 0.1856 -0.10797 0.19376 -0.0971 C 0.19549 -0.0904 0.19827 -0.08485 0.20001 -0.07814 C 0.20174 -0.13225 0.2007 -0.19051 0.2349 -0.2282 C 0.24723 -0.24184 0.25956 -0.25456 0.27466 -0.26196 C 0.27778 -0.26358 0.28091 -0.2652 0.28421 -0.26635 C 0.28838 -0.26797 0.29688 -0.27051 0.29688 -0.27051 C 0.31216 -0.26982 0.32761 -0.26959 0.34289 -0.26843 C 0.35903 -0.26728 0.37119 -0.2497 0.38091 -0.23468 C 0.39393 -0.21456 0.40174 -0.18589 0.40799 -0.16069 C 0.41112 -0.14751 0.41355 -0.13618 0.4191 -0.12462 C 0.42084 -0.1156 0.4231 -0.10913 0.42709 -0.1015 C 0.43143 -0.08346 0.42501 -0.1119 0.43022 -0.0719 C 0.43213 -0.05757 0.43751 -0.04323 0.44133 -0.02959 C 0.44272 -0.02473 0.44289 -0.01942 0.44445 -0.01479 C 0.44515 -0.01248 0.44758 -0.01086 0.44758 -0.00832 C 0.44758 -0.00624 0.44567 -0.01132 0.44445 -0.01271 C 0.44306 -0.01433 0.44133 -0.01549 0.43976 -0.01687 C 0.43664 -0.02913 0.42726 -0.03768 0.42067 -0.04647 C 0.41876 -0.04901 0.41789 -0.05248 0.41598 -0.05479 C 0.41233 -0.05918 0.40348 -0.06728 0.39844 -0.06959 C 0.38612 -0.08601 0.39219 -0.08207 0.38265 -0.0867 C 0.37588 -0.09525 0.36303 -0.09687 0.354 -0.09918 C 0.33542 -0.09757 0.3139 -0.10658 0.29844 -0.09294 C 0.27831 -0.07514 0.28612 -0.01965 0.26042 -0.00832 C 0.25452 -0.01618 0.24862 -0.02404 0.24289 -0.03167 C 0.24098 -0.03421 0.24011 -0.03768 0.2382 -0.03999 C 0.23594 -0.04277 0.23265 -0.04392 0.23022 -0.04647 C 0.20678 -0.06936 0.19115 -0.08832 0.16355 -0.10358 C 0.15226 -0.11814 0.13768 -0.13132 0.12223 -0.13525 C 0.10313 -0.13017 0.0948 -0.12346 0.07778 -0.1119 C 0.0474 -0.09132 0.07744 -0.10681 0.06199 -0.09918 C 0.05643 -0.08878 0.04584 -0.08624 0.0382 -0.07814 C 0.03091 -0.07051 0.02865 -0.06034 0.02379 -0.05063 C 0.0191 -0.0319 5E-006 -0.01918 5E-006 7.57225E-006 E">
                                      <p:cBhvr>
                                        <p:cTn id="6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4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059520" cy="4066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51814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luru is a very well known rock which sits in the middle of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609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leather back turtle hatching is one amazing thing that happens at aussie beach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554280" cy="470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56386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therback tur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iew from the Melbourne Eureka sky deck is spectacul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270920" cy="4953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45720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572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ureka sky 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0:09:06Z</dcterms:created>
  <dc:creator>Bonnie</dc:creator>
  <dc:description/>
  <dc:language>en-US</dc:language>
  <cp:lastModifiedBy>Bonnie</cp:lastModifiedBy>
  <dcterms:modified xsi:type="dcterms:W3CDTF">2009-03-29T06:52:09Z</dcterms:modified>
  <cp:revision>7</cp:revision>
  <dc:subject/>
  <dc:title>Slide 1</dc:title>
</cp:coreProperties>
</file>